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dt" idx="5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ftr" idx="5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 type="sldNum" idx="6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FB1C-611F-47C7-91F3-C82DE6A7F487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05A-8A9D-4977-8886-78F2B7626646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D38-E286-486D-A706-A0D03DE3F1A5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DF1-592B-4312-AEFB-8079308077D1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77E-9454-4300-8CF2-2B71958D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0F5-700C-4329-A594-00A9EB9B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57F0-17A3-45E7-B21D-23A75F5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928F0-E414-4240-AA07-E3527C3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9444B-8450-4A82-A38B-55831E3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4B28A-DAFC-4851-BC5B-388EE84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2142-0F3C-4725-BF48-E6E37FD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E38A5-D294-43DD-B0F8-D42F17D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C023-53D7-4F13-8A18-B305910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94637-E9B1-484E-9C25-4DDE0C0A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49FE4-E7FA-42D9-90CD-F7826A03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B9404-E2C4-416F-8B18-0D68639D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CCF-2E9F-4C56-87D0-3D337A08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C673A-E9C7-439D-A581-4BCA1C5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4C019-A573-43DA-ACD5-31652C0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19394-F87C-4452-88F0-4FF33CD3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EC46-EDD7-4DF1-99CE-DDD0168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32CC9-8E70-4EC4-8E27-FBE5E59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388C2-0B98-4355-9040-40BD35B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FC16F-BD7A-49AA-9404-1CC86D3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3C86-C334-4A3F-849E-4C4699F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9E1B7-3710-47F2-8355-9E92DF9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F37AC-4845-466C-9242-AE12766A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770-BC11-46CD-8179-2726B6EC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79464-A16D-4CA6-8C99-85CC0710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0F06A-C70B-4F00-9CA6-DF0F2BA7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B8FE-5789-4AB9-98D4-3530FC7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D727-9773-4077-AF91-D0259003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6876-9296-4034-AA77-A8630B7A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A28BE-7283-4BA6-92A8-B2866DC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B04F6-682B-4849-A9C7-6061FDB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7ABA0-4DEF-42DA-A615-1141D42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863AB-8132-415B-B842-5E80763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D61EC-009E-44C5-A6A5-781E9E3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0C8-FD23-418E-9AB1-A301D97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7E2A-198A-4120-B519-7DAFE067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2260A-D7D6-4847-B24B-2D4531FF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F9377-7009-4E89-B4E7-3B3EE66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8ECAB-AEB4-4483-8FF5-CC96F974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E11D3-9006-46F4-B6D7-24307B6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82EF1-3274-4C59-A1FE-72BBADA5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24CDA-EBE2-4005-8BF8-D27B610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DCE1-C982-4E1C-8956-4D6BCED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49BC3-DA84-4C87-85DB-A03E18B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864C3-F676-4515-A0DA-B8F1881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083E-96DA-422A-BDA9-0899BB8B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5C96F-5CA5-417B-BF71-E50CFD85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ECB9E-98B7-42B7-AC8B-DAA1272F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42CE4-2670-42D0-9696-E55E9C24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A0892-3440-4D85-A0B5-CFB9331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4FB1B-5FD4-4F2B-AEC5-332C8384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96C5F-E641-430C-B1FB-086E2134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10523-4174-425C-B6B3-356D943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AB3FE-B5C1-492F-8C19-F4B477F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B89CD-DD7C-417F-8159-9B598188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3A909-7167-4CBD-90EA-A90C0BC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E85-7B41-4E81-A0D6-761BE26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55075-65B2-4078-98A7-B3653C3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F33E3-62B9-4916-B1B7-981FB6B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0E18C-8B67-4FB9-8977-701AA779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1980F-DA10-4467-B807-BEBFAAF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68000-9DF0-4FC2-A78E-891D1A02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CF72D-FA61-4AAF-A760-B742850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4BC01-3E33-44EC-B49E-F8499FF7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A0499-B734-4083-BA41-49594CEF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74E97-BBFA-4F06-9FFA-83CE8E13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67FD7-D125-4165-B42C-F09F3F5E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77C0-6B34-417A-B643-F3477629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5338D-37DB-497E-8CAB-824FDB3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7F93-CDAA-4A4C-80D3-4F33BD5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8B756-42E0-4BC6-AF31-31D1571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1E054-33C5-4A45-892C-CED2A9A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D6F5C-2BAB-4C7D-9827-680E09A4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C8248-98CF-4202-84D3-0EFCCC6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9957A-A5F9-4EB9-BB69-A82FE26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1DB73-B9A5-4C71-ADF0-039E83F3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EC081-BDD7-4553-BFBB-ED5EC9F9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2A0A8-EB85-442E-9DEA-BB83C03A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1C7F-6260-4049-AB33-F7371C0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B7FB6-79FD-43E8-A946-99432C9D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733D3-5943-4085-8B63-803E126F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EBA34-68BF-439C-8492-A38928E7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251C2-F0CB-4D99-98D3-0D89CB9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320F2-03A7-41D0-B539-D8E6CA83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8AD2B-5A83-4A0D-BACF-D0C5B7C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F0EC6-B0EA-495A-B907-9F1AECF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E6A47-35D3-41FE-B879-19BFC4C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1171C-BCA2-4526-B7DB-8FF5206D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04DDA-D01D-4E78-B4C0-B0ECAA2E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63B-8CED-4020-A31E-B78B49DF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CF67B-4535-43F7-AD44-B0EF49F2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A53C6-D70D-4716-B619-7576E459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23C0E-64F8-4590-853F-AE699AA9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4C7ED-8339-481A-80AD-3016F54A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FF70-FDD5-4FF4-93C1-607418C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97FC4-5028-4AB0-8E9B-CB1116A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75D75-57D3-4D7C-8465-4526AF6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3A36D-EDFF-48F5-B7CE-535618C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F2C00-30D9-49AA-A6B2-4E0A8AF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FA3FA-50D8-4434-B4DB-8DA83CE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445-C7E0-4451-84AC-BBA1121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BF24A-EDC5-4AAE-BEEA-B195814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33E14-AF3D-4964-90BB-06457315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FBFFA-A1AD-4FD9-87BB-A44D98F1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44EF4-6B2C-47D5-BAE3-956222A1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ADCC1-87F6-402A-A795-3E9D7DC0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7B170-727C-4A2A-BF43-A8F1AE4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7A2C4-11C9-4910-8781-AEC100E6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ACF2A-156C-478C-9EFB-D6B497E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8C2FE-5C6A-4CDA-B37F-3667DDB2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925EB-FF14-4EC3-8099-84D3C61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884-BDE8-42C4-8DE4-FD4BB275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88D-54F9-464E-85FC-B8D8D01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5641F-E5A7-4DEE-9F45-127BEF3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FD494-46B9-4BDF-9C35-EBF0F0E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43922-8C5A-4A25-AA86-9904B08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08558-E9ED-4C4E-B9FA-E49A8A3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C874C-4A0F-4650-8383-EF3520B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6627E-8B46-4454-8B77-E1D3A333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37A8F-707D-4EC9-A7F6-DE8B41C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0723B-655A-4384-A5C6-E549ACD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3621D-F48B-44B1-B085-772178F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042C8-3C91-43E1-BF45-F6DABE42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F5FD-EE26-4BF4-9C87-D540F0F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16DC5-B975-49A1-9B3F-A09B4337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554B9-2AEC-4586-89CF-E69749A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32D7B-09E0-446C-B3C9-36BE86D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21BA5-8A89-4C45-AD82-EB7FCFD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3822C-E074-447E-BDF0-E537EC22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BA222-9289-42A9-BA39-4F2A6B86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E6272-9CEA-4403-8F10-B4322342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28F56-ACCE-4C78-83B4-5CA78A0F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586C9-B950-47ED-8931-32472C3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19407-8CF5-47D2-919D-8ED51DC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05DC-C365-464B-942B-9CCDE634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3AC1E-F9FF-42E6-8398-5D9F489C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0B7C3-4391-4EA7-B94E-1E920FF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A6E18-ECBB-4818-8A76-E6539E4D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D67E8-1C08-451A-83FC-D53E3C6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08B61-EDBF-4F0E-96F8-7DB4421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CA5D3-7C9E-4C43-8AF0-41BB40D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6138C-E078-4E38-AE6A-ED619157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91553-F11F-4F6C-B07F-628B57E2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440FB-EC26-4ED5-9F57-65D58D46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4B4-7AC5-4065-B71C-21900468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1DC2-11A7-417B-BA86-4F30F81F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C384-ADAD-45D2-BC4E-A00D181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DB12-8AE0-475C-8C38-EA5F365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99BC-82E4-4984-A3CB-9C48E13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C1F7-6C70-4F0A-AF20-320FD86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50BB-61BC-45D2-BE7B-229D0B8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A34-20CF-44CF-932D-AEFDF72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85A9-524F-428A-BB46-EACA6C2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B708-A04E-4601-8045-744EFE3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BECD-F377-4999-A666-961B59B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C93D-85F1-4208-9744-EBD75ED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EF6C-CA40-4FE3-B043-9D5C2E09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8DAA-E00C-43EB-9675-5F72A0A7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F3DA-A9BA-44EB-81F8-450F9E6F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A274-CDD5-4AE5-8DD1-94090DD5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5EDA-FF58-47D4-9F43-EAD85FE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D15B-8685-4C92-BD0D-738B8EE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4D8-F9C4-4AAB-9704-E2ED4E8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BBD8-FF39-4EA1-99C8-9AE0EE2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9E24-AE01-42E2-B64B-7F53C05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9856-8FD4-4439-90BF-6C20D79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36CB-77CD-4F33-91A3-2A2B5C2B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4A22-FD86-48EE-9B3A-F5BA37C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CAAD-82F4-461F-B5AF-48BBF30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29DC-F922-41B2-A1B1-A2138D1D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B3C5-5619-4CC2-878C-7CB99B10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9883-67A1-48FF-A4CD-184BAE24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6D71-815F-444E-B50F-407F7482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CAA-195E-4751-8BFE-4EAFACDD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3933-903E-4F66-8EE0-2A27732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5AA4-B570-4FFE-8AF1-27D511A2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9F14-720E-4679-8545-4F1CF103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7FED-3C6A-47A2-A5B6-98D4D34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E30B-E47A-4031-A190-23D176F3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A0C5-C1FA-406D-84C9-7521E6F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5F6F-78BD-4DFD-B6F3-2CE925D1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A133-2989-4697-BE70-C91EF50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C1A4-BE41-490D-BBDD-7852C709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911B-D503-477D-A894-9B15EEEB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7D3-8C9F-448A-8F47-0CFA9F9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608F-5AAB-402A-9E8F-75E84294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7D8A-9541-47A6-A239-E3E2EF69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0DBE-56C8-41C1-AB2D-6F19184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B04B5-92D9-4B11-B687-0B970528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1505-D0CA-48DD-A10E-0ACD39A0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037A-EE17-4767-9812-1C396E4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EB7D-C4BA-4B06-8A07-B75B2F0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BB54-CCAF-4981-A82F-741E9F0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D6CD-A3AB-4CA4-A89B-1D855A2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AD14-1588-4DFD-B180-02E2CD8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F7B-E1A3-4235-8386-3A0A663B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0106-701A-4277-88E0-B0D2B85E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2ABF-EBC8-4351-92E3-2CB3916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0EDB-48D4-4F86-BDC2-56D27E59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C8150-E371-4232-A785-93614FE7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D90A2-305B-4BAD-9D8C-74B5B3D6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644AE-E768-4F86-A437-0E06BE31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2F52A-8D22-4C92-B9C9-5458D27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E5859-EBC5-44EA-BA67-3801B398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6DB5A-83F1-432B-AD59-62A4F41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F69A7-CFC7-42A3-9F0B-C8AEED0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A7C-D94D-4AE3-A06B-FECB094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A8109-D4B7-4BF3-949D-C157A5A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6C0F8-6666-43C5-9D72-F039016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FAEB0-C93A-4113-9F68-DD110F7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1EC44-E00C-4FCD-9665-D3834E71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ADA4E-D5CE-4373-A399-F2F5D59A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0EC8E-01CF-461B-93F6-80D8550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3138C-EEF3-4777-8339-25F6D860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048C-EF21-4F71-8136-6B8B8F7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B0C6-8591-4B69-99F6-1BD1CC7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7B9E-68E8-4F67-A716-7B930144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823-1AA1-43E0-87E5-9946D3FC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0A529-2C52-42E1-8053-D406A48F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9C58-AF3A-449E-8367-41C6710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A293-AA7E-4754-843A-EE29582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417B-B627-456B-A534-94B4F1F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9F5E-D684-4BB5-A045-F21A531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C8D1-0A2F-4115-906D-A975E40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1796-659A-4A0A-8FBE-BA7D87BB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DA93B-E80A-4690-B21C-144E56C2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AE4B-186F-4606-9D19-FE37498D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90FAA-12E7-456C-B5D5-899D43C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0C7-49DB-4548-8253-CDD97FA7EEB1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E51-7D19-4BB3-BDC5-A0780A284C56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3B9645DF-955B-4D65-A77D-9903A43E04DC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3EF0-63E8-44C7-AC16-645AEB622CDF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6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8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226-80FA-4AE9-AB80-A12881B700B6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book24.jpg"/>
          <p:cNvPicPr/>
          <p:nvPr/>
        </p:nvPicPr>
        <p:blipFill>
          <a:blip r:embed="rId4"/>
          <a:stretch/>
        </p:blipFill>
        <p:spPr>
          <a:xfrm>
            <a:off x="5857920" y="1600200"/>
            <a:ext cx="3214800" cy="4829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image001.png"/>
          <p:cNvPicPr/>
          <p:nvPr/>
        </p:nvPicPr>
        <p:blipFill>
          <a:blip r:embed="rId5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6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. </a:t>
            </a:r>
            <a:fld id="{D666B111-9A23-4508-B2AC-A29CBBF00863}" type="slidenum"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2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23"/>
          <p:cNvSpPr/>
          <p:nvPr/>
        </p:nvSpPr>
        <p:spPr>
          <a:xfrm>
            <a:off x="500040" y="1928880"/>
            <a:ext cx="8143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8EAC-51D5-40B1-B13A-274A9095C1D6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94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ADFF-F7F3-49BD-B249-20DE69B006CF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4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4BD8-2F8A-4A73-B14C-2338B75BE002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7ECE-048A-4A45-BC66-E22409401E2D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E45-715A-434D-ADCB-CCFF9C7ED8E5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C36-24A1-4969-99F4-A2BFCC2531D4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6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8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19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7FFB-4291-4EFF-9B04-6FA089648CC6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F743-C2A5-408B-8B3D-0080CAFEC0F9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6007-5EA7-46B1-881B-EC856FA988B9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4A5-1C50-4F16-AFD4-BB70D4C8E37C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E893-422A-4BC4-BF81-2180B4C76397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1E205CFB-F140-46B9-95DA-11E06A1E6FF6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410-CAB7-43D6-903D-88FDCE664539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book114.jpg"/>
          <p:cNvPicPr/>
          <p:nvPr/>
        </p:nvPicPr>
        <p:blipFill>
          <a:blip r:embed="rId3"/>
          <a:stretch/>
        </p:blipFill>
        <p:spPr>
          <a:xfrm>
            <a:off x="5769000" y="1390680"/>
            <a:ext cx="3375000" cy="5068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image001.png"/>
          <p:cNvPicPr/>
          <p:nvPr/>
        </p:nvPicPr>
        <p:blipFill>
          <a:blip r:embed="rId4"/>
          <a:stretch/>
        </p:blipFill>
        <p:spPr>
          <a:xfrm>
            <a:off x="7929720" y="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7251120" y="51588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9E8D5162-E220-4E66-94BF-CF0FF014517A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1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669800" y="71424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3"/>
          <p:cNvSpPr/>
          <p:nvPr/>
        </p:nvSpPr>
        <p:spPr>
          <a:xfrm>
            <a:off x="1071720" y="1500120"/>
            <a:ext cx="6215040" cy="180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4429080" y="71424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C1A-8694-4231-908D-6A4428BD4423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9D6-7269-46E6-AE40-BEA658B2FB3B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</a:t>
            </a:r>
            <a:fld id="{A9D415BE-B181-41A4-A298-E1C6C9668C04}" type="slidenum"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51BC-F458-4DA1-B9A7-FBA52109E5F9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Title 1" descr=""/>
          <p:cNvPicPr/>
          <p:nvPr/>
        </p:nvPicPr>
        <p:blipFill>
          <a:blip r:embed="rId1"/>
          <a:stretch/>
        </p:blipFill>
        <p:spPr>
          <a:xfrm>
            <a:off x="920880" y="3273480"/>
            <a:ext cx="7869240" cy="1450800"/>
          </a:xfrm>
          <a:prstGeom prst="rect">
            <a:avLst/>
          </a:prstGeom>
          <a:ln w="0">
            <a:noFill/>
          </a:ln>
        </p:spPr>
      </p:pic>
      <p:pic>
        <p:nvPicPr>
          <p:cNvPr id="870" name="Rectangle 3" descr=""/>
          <p:cNvPicPr/>
          <p:nvPr/>
        </p:nvPicPr>
        <p:blipFill>
          <a:blip r:embed="rId2"/>
          <a:stretch/>
        </p:blipFill>
        <p:spPr>
          <a:xfrm>
            <a:off x="987480" y="774720"/>
            <a:ext cx="7662960" cy="14810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image003.png"/>
          <p:cNvPicPr/>
          <p:nvPr/>
        </p:nvPicPr>
        <p:blipFill>
          <a:blip r:embed="rId3"/>
          <a:stretch/>
        </p:blipFill>
        <p:spPr>
          <a:xfrm>
            <a:off x="4218120" y="2000160"/>
            <a:ext cx="1353960" cy="14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57200" y="205236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f the journal article has no name, but it has an author, and a publication da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f the website gives you a page number, but not a title or da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it (author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name, website title,date, etc.) use it, if you don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have it, you can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use i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Title 2" descr=""/>
          <p:cNvPicPr/>
          <p:nvPr/>
        </p:nvPicPr>
        <p:blipFill>
          <a:blip r:embed="rId1"/>
          <a:stretch/>
        </p:blipFill>
        <p:spPr>
          <a:xfrm>
            <a:off x="433440" y="334800"/>
            <a:ext cx="828972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7200" y="2142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rbs, axioms, and say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ll – known quotation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on knowled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Title 2" descr=""/>
          <p:cNvPicPr/>
          <p:nvPr/>
        </p:nvPicPr>
        <p:blipFill>
          <a:blip r:embed="rId1"/>
          <a:stretch/>
        </p:blipFill>
        <p:spPr>
          <a:xfrm>
            <a:off x="176040" y="781200"/>
            <a:ext cx="8791920" cy="115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2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457200" y="2266560"/>
            <a:ext cx="82296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arenthetical citations are placed within the text of your paper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elow are examples of how to cite print sources and electronic source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Title 2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In – take citations take form in one of three way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 (one option)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, followed by the date in parentheses, continuing with the rest of the sentence, and then ending the sentence with the page number in parenthes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57200" y="207144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 (another option):Author and date are mentioned in the sentence. This may occur when you don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mention the research the author has done but quote directly from her/hi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quote from text: Author, date, and page number in parentheses all follow the quoted materi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se sources are slightly different;because many electronic sources do not provide page numbers, you will want to cite either the paragraph number or the heading in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e the paragraph number after the year of publication and within the parenthesi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e the heading information after the date of publication and before the page numb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457200" y="219564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ference page will appear near the end of your document that is , after your study, report conclusion or literature revie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ference page lists the bibliographic information for all the sources that you cited in your paper, not all works you have merely consult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Title 2" descr=""/>
          <p:cNvPicPr/>
          <p:nvPr/>
        </p:nvPicPr>
        <p:blipFill>
          <a:blip r:embed="rId1"/>
          <a:stretch/>
        </p:blipFill>
        <p:spPr>
          <a:xfrm>
            <a:off x="195120" y="781200"/>
            <a:ext cx="87537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page is not necessarily the last page in your paper; tables and appendices, if you have them, will come after the Reference pag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Title 2" descr=""/>
          <p:cNvPicPr/>
          <p:nvPr/>
        </p:nvPicPr>
        <p:blipFill>
          <a:blip r:embed="rId1"/>
          <a:stretch/>
        </p:blipFill>
        <p:spPr>
          <a:xfrm>
            <a:off x="195120" y="781200"/>
            <a:ext cx="87537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Rectangle 3" descr=""/>
          <p:cNvPicPr/>
          <p:nvPr/>
        </p:nvPicPr>
        <p:blipFill>
          <a:blip r:embed="rId1"/>
          <a:stretch/>
        </p:blipFill>
        <p:spPr>
          <a:xfrm>
            <a:off x="-579600" y="1884240"/>
            <a:ext cx="9590400" cy="404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itle 1" descr=""/>
          <p:cNvPicPr/>
          <p:nvPr/>
        </p:nvPicPr>
        <p:blipFill>
          <a:blip r:embed="rId1"/>
          <a:stretch/>
        </p:blipFill>
        <p:spPr>
          <a:xfrm>
            <a:off x="-115920" y="3456000"/>
            <a:ext cx="6510240" cy="148104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4"/>
          <p:cNvSpPr/>
          <p:nvPr/>
        </p:nvSpPr>
        <p:spPr>
          <a:xfrm>
            <a:off x="1812240" y="428760"/>
            <a:ext cx="59652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General English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Supp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57200" y="2195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we cite sour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needs to be ci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use parenthetical cit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create the reference p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tional APA style tips and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ck links to other APA reference sour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Title 2" descr=""/>
          <p:cNvPicPr/>
          <p:nvPr/>
        </p:nvPicPr>
        <p:blipFill>
          <a:blip r:embed="rId1"/>
          <a:stretch/>
        </p:blipFill>
        <p:spPr>
          <a:xfrm>
            <a:off x="420840" y="500040"/>
            <a:ext cx="824220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8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4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8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8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2195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handout has been designed to introduce you to the concepts and formats of APA cita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uthoritative coverage of APA style, see the publication Manual of the American psychological Association 5th 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Title 2" descr=""/>
          <p:cNvPicPr/>
          <p:nvPr/>
        </p:nvPicPr>
        <p:blipFill>
          <a:blip r:embed="rId1"/>
          <a:stretch/>
        </p:blipFill>
        <p:spPr>
          <a:xfrm>
            <a:off x="420840" y="500040"/>
            <a:ext cx="8242200" cy="145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457200" y="198072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ne purpose of citations is to leave a trail of clues for interested readers. When you document papers correctly, you provide others with a way to access the sources you have used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other purpose of citation is to promote ethical responsibility and academic consistency in a discipline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writing community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you do not cite and document your sources carefully, you run the risk of plagiarism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en you write a paper in the social sciences, you often use and build on information other people have researched and compiled.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ou need to documen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quo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s(rephrased or summarized materi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57200" y="205236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rases taken from source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ords specific or unique to the author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research, theories or idea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of an author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argument or line of think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457200" y="2286000"/>
            <a:ext cx="822960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istorical, statistical, or scientific fact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ticles or studies you may refer to within your tex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31:18Z</dcterms:created>
  <dc:creator>Narjes</dc:creator>
  <dc:description/>
  <cp:keywords/>
  <dc:language>en-US</dc:language>
  <cp:lastModifiedBy>Narjes</cp:lastModifiedBy>
  <dcterms:modified xsi:type="dcterms:W3CDTF">2007-05-19T08:35:02Z</dcterms:modified>
  <cp:revision>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51033</vt:lpwstr>
  </property>
</Properties>
</file>